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17C-54A3-4B41-ABB7-93C387F3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753-9570-4EDA-B747-6A71E404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252-7AE2-4D88-A694-3C5B5519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1C9-A2CF-44A0-BBDA-EBA23490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9F8-6484-46F5-AFD1-E0E94CC5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444-9493-4732-BEBB-B3D8B319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F48-5A3E-4DD0-A66B-E9B5C1C2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833-7DB8-4DC1-A44D-C27330C2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4FD-66F3-46A2-AFBD-4F8FC953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97B-BF6E-43C2-AF2E-2749C73E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047-A1F2-4B97-BA0B-509CE05D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92D-4B28-4226-A5F9-40C5ABCF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2B3D-5586-49CF-B4DF-6AE904376B4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4:47Z</dcterms:modified>
  <cp:revision>191</cp:revision>
  <dc:subject/>
  <dc:title>Normal Forms and Properties of CFLs</dc:title>
</cp:coreProperties>
</file>